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3C7A-5902-49A6-B786-578DE6BE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AFD2-B59C-41AE-93F8-FA4DFDB7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CD33-5425-4BA5-AB71-6D6E73810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9885-D92B-407E-9ECF-F83574FF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E901-DBF8-47F8-81AF-6DF2B5C3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72F0-94AB-4F16-838F-E82DC7FA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09C7-449D-47CA-BCBC-39E8EC04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F3D9-8945-4093-A151-DF2F0624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36BD-5D75-4354-B44A-B09D333A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74F7-5718-455E-BED9-D9FEBF49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1096-BFA6-43F3-B0DD-9CBB90E9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23C6-4CBD-4CE4-A116-F4A41D16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9598-7588-4406-93A0-0B3D734C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32C6-A0AD-44DF-8D09-BE848288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927B-FD9F-4003-B28D-D51A1A92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D712-6714-4325-A4EA-BFE24E5A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3D7D-7683-4373-A626-B637326D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E97F7-243A-4F55-914E-86F5593D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03283-0593-4CA5-9032-D712D797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B3050-A190-448A-9910-EC094027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983ED-98B0-4646-9D71-0947CE4D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63FCF-6197-4EDD-B2C2-174E78B7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8C38-3268-4D51-8045-0FAF99B5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E56B3-6B2A-4D62-98C8-5F77C7FE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237BF-3A2B-4B1A-8E0C-A03A4DC3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E0C65-3CD0-4C58-AEEF-2BEE3F2F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161AD-880E-459B-AFF4-CFA80145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97C26-A366-4A5E-A0AC-77E00D00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E6308-BFFC-4251-A523-41BA6C7E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3FFDE-4878-4A44-8CAE-D908E8191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38F4B-2C19-4C5C-B33C-CB9C2569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6AC61-65D6-45C4-97F2-F43FA2A0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2614D-2F11-42D8-B669-B7148E57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D23D-586C-44B6-93CB-BD62F43D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797DC-454A-4123-86AC-83451C7C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12B1D-06A4-4655-9B65-1B447F81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06915-22B6-41FF-91A3-87F033EC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FD61C-2F24-4AD7-B53F-C7CCAFAC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8DB34-F81E-409C-ADF0-15D4D6A8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6E289-0B65-4DBC-9667-0AC4F330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B8FA2-4C82-45A1-AF49-78397108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6B9A1-F19B-489E-A1E2-9AAF7D97B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DF955-7559-493C-80BD-BA492334C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04F1F-9830-48E6-A90A-485BD9120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9F4A-5B5D-4F68-A75C-73351A29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552CF-D386-4624-A0F7-DDE5FE81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7AB9A-906C-4588-BB24-1DF81A4E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52B1B-A06E-4069-B23B-90C5CD77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C0D70-43BA-4C20-918C-63B07BA2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6FDF7-3CE0-4A48-BFF6-F9449398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D0035-FE96-4973-AB83-CF9B9FC6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98904-0EB6-4A09-B35B-6945CE8E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E2F30-76B7-42A0-A58A-1A582567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EB47C-92A8-4472-A62D-99B7B52E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F71CD-CBCE-4015-B60C-C79C9E499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4F7A-405E-4AF4-A0B2-E82CFEEF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8865B-CBD2-42EE-959F-A490D5FF4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47FD6-2CD4-4F57-8587-226B8F9B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09FA3-9E67-4319-9E9A-832B0940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16462-3387-4156-8321-790AFE00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FCF8F-DFEB-486E-989A-956259C1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09F58-78A1-41D8-B725-175E19D8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C6DB0-C5BF-4BED-A784-D306A92B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1D40F-1FBE-4F23-8023-06D0D358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ED411-B051-4779-843A-A7ADECAC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39612-EA0B-44ED-9BA7-87CDEE4F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265F-8235-4790-B7ED-60398857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5B54C-DC3E-48CA-B9BB-26292433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98F72-6AB4-4D42-873C-29131FEBC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F4712-4453-429F-9365-A12734052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5758D-A1E2-47CF-BB04-30F50D1B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DF8A9-0031-4470-AC8A-03433D86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02C66-AE84-4DA1-9EF2-2B036D92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0D6C8-3384-4B2C-9F60-76480B8E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0ABBB-FF5E-4346-9088-F3459FCF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4F000-E224-4CBC-9C33-BE311699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7C37B-6933-4123-A8F7-AB909D2F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EFC2-BBC8-4A83-9DA6-E9B66AA0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EFEAE-754A-4C48-B572-3E68F85B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62ED8-A179-4506-B3AD-0D9D0084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15AEB-987A-4903-98E1-4E871A30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E4AC9-17F6-40A8-A1AC-6AA5C011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4C834-33CB-4C0A-9395-3FE35082D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D0B7-E2D0-4333-9C5D-CB5631CF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EF17-33BC-423B-85AE-23931BEDB1F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6437-890D-4341-A2B7-F7360DDA5B4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EA73-1E7E-41B3-9730-1C9B8F75331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C657-7FD6-4AD9-BC4F-DA27CD4FB07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577F-A4C2-411A-8A85-E77FB44A4CC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065E-78A2-4836-AA0A-85BA98F0BD9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F651-2826-4236-8921-579FC741462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us 50 states map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7:48:43Z</dcterms:created>
  <dc:creator>user</dc:creator>
  <dc:description/>
  <dc:language>en-US</dc:language>
  <cp:lastModifiedBy>user</cp:lastModifiedBy>
  <dcterms:modified xsi:type="dcterms:W3CDTF">2013-01-28T17:53:12Z</dcterms:modified>
  <cp:revision>1</cp:revision>
  <dc:subject/>
  <dc:title>Slide 1</dc:title>
</cp:coreProperties>
</file>